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5BD4-FBCF-4D99-B9AC-6300A03B8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round the nucleus of an atom where electrons are most likely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impossible to describe its exact location because it is so small and moving so quickly around the nucleus (e.g. spokes on a bicycle whee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FE34-144A-40E7-B404-0929F9710F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ks are even smaller particles than protons and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ks account for the electrical charge of an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065D-A3C8-4C4B-8167-CF01928B63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ontains most of the mass of the atom because protons and neutrons are far more massive than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 proton is about the same as that of a neu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’s mass is so small that it is considered negligible when finding the mass of an atom (think of adding a paperclip to the top of a textbook) p.5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EA43-D9DC-4B2E-8CA9-E778A88E85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N EXAMPLE ON THE BACK OF THEIR HISTORY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A83D-6A41-460E-94F8-C7305887D6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0452-855C-4263-ADAB-D823FA3339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B63D-60A8-4C48-9BD1-A156475F35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B811-9171-4BDC-8B7E-0F5E9F855F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The smallest piece of matter that still retains the property of the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matter that is composed of one type of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take ~24,400 atoms stacked on top of one another to equal the thickness of a sheet of aluminum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0C39-F6B4-4ED8-850D-9C9351DB7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The smallest piece of matter that still retains the property of the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matter that is composed of one type of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take ~24,400 atoms stacked on top of one another to equal the thickness of a sheet of aluminum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E576-278F-4287-B723-1093118B0C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4C2C-9787-488D-804A-AAE66ACBE0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6C3E-61AA-4A80-890D-A30BD860A8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999-6F0F-4011-80D0-A9E1CA98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FEE-197B-4A3D-8656-3AD0BB97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F06-2FA7-445C-A75D-B32F46F8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478-AC24-4360-9F6A-3A370BE4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38F-5BEB-42F7-8620-2D0767D9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FF5-9377-4B82-ABCE-5D2086C6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F32-0198-411B-AAEA-FBF154FD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CE4-DBB3-4BB8-82FA-7FB5D61D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E9E-E070-4605-B989-2036B5B0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6FC-17F3-464B-AD85-017E8596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113-97B2-40BA-9342-7AD46E15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C6B-D401-4CDC-BF0C-9F48C0A4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27BD-8C6D-4351-9A7E-E6C9A2DD9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gentsprep.org/Regents/physics/phys05/catomodel/cloud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ducation.jlab.org/glossary/isotope.html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REVIEW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is the Electron Cloud Mode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152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dd the charges of each part of the atom to your dra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-atom_e1.gif"/>
          <p:cNvPicPr/>
          <p:nvPr/>
        </p:nvPicPr>
        <p:blipFill>
          <a:blip r:embed="rId1"/>
          <a:stretch/>
        </p:blipFill>
        <p:spPr>
          <a:xfrm>
            <a:off x="1981080" y="1828800"/>
            <a:ext cx="4953240" cy="4713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80880" y="152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dd the charges of each part of the atom to your dra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Pro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Pro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ositively charged 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articles found in the atomic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Ernest Rutherfo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xperiments in the late 1960’s/early 1970's showed that protons are made from other particles called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quark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are made from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wo 'up' quarks and one 'down' quark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950160" y="2209680"/>
            <a:ext cx="2193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Neu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Neu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uncharged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particles found in the atomic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James Chadwick in 193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 are made from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one 'up' quark and two 'down' quark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5943600" y="495288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n Elec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n Elec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gatively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charged particles that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urround the atom's 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J. J. Thomson in 1897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determin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pertie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the ato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Chemical reactions involve sharing or exchanging electron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04148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Nucle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Nucle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cleus is th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central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part of an at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t is composed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d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utr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cleus contains most of an atom's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mas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t was discovered by Ernest Rutherford in 191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REVIEW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is the Electron Cloud Mode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Model of the atom that pictures the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electrons moving around the nucleus in a region called an electron cloud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electron cloud is a cloud of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varying density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urrounding the nucleu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varying density shows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where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 electron is more or less likely to b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toms with electrons in higher energy levels have additional electron clouds of different shapes that also show where those electrons are likely to b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380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819520" y="6172200"/>
            <a:ext cx="91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or more information, click here: </a:t>
            </a:r>
            <a:r>
              <a:rPr b="1" i="1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regentsprep.org/Regents/physics/phys05/catomodel/cloud.ht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Qua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8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Qua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520" y="19051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  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basic building blocks of matte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When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in experiments done in the late 1960's and early 1970'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Kinds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ree families (ea. contains two quarks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Up and Down quarks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Lowest masse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table and most common. Form protons &amp; neutron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trange and Charm quarks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Only exist at high energies such as cosmic ray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op and Bottom qu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rks. Only exist at very high energies such as cosmic ray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638680" y="27000"/>
            <a:ext cx="35053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Orbi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images-1.jpeg"/>
          <p:cNvPicPr/>
          <p:nvPr/>
        </p:nvPicPr>
        <p:blipFill>
          <a:blip r:embed="rId1"/>
          <a:srcRect l="0" t="6285" r="0" b="6285"/>
          <a:stretch/>
        </p:blipFill>
        <p:spPr>
          <a:xfrm>
            <a:off x="304920" y="380880"/>
            <a:ext cx="3352680" cy="313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bohr_atom.gif"/>
          <p:cNvPicPr/>
          <p:nvPr/>
        </p:nvPicPr>
        <p:blipFill>
          <a:blip r:embed="rId2"/>
          <a:stretch/>
        </p:blipFill>
        <p:spPr>
          <a:xfrm>
            <a:off x="4373640" y="2109960"/>
            <a:ext cx="477036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Orbits and Electr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 Neils Boh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2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8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18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32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are responsible for determining the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pertie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an ato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ared or lost to form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Ionic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r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Covalent Bond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Valence Electron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: Electrons on the outermost shell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Bohr_Niels_9.jpeg"/>
          <p:cNvPicPr/>
          <p:nvPr/>
        </p:nvPicPr>
        <p:blipFill>
          <a:blip r:embed="rId1"/>
          <a:stretch/>
        </p:blipFill>
        <p:spPr>
          <a:xfrm>
            <a:off x="5715000" y="1295280"/>
            <a:ext cx="2933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2286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toms that have th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ame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number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but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different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numbers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utr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676520" y="2209680"/>
            <a:ext cx="5790960" cy="312444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4" descr="isotope"/>
          <p:cNvPicPr/>
          <p:nvPr/>
        </p:nvPicPr>
        <p:blipFill>
          <a:blip r:embed="rId1"/>
          <a:stretch/>
        </p:blipFill>
        <p:spPr>
          <a:xfrm>
            <a:off x="1905120" y="2362320"/>
            <a:ext cx="5029200" cy="2760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04920" y="5867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7200" y="5638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education.jlab.org/glossary/isotope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 Mass and Numb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mber of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tells you what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ype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atom you have and vice vers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.g. every carbon atom has 6 protons and every atom with 6 protons are carbon atom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mber of protons in an atom is equal to a number called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Palatino Linotype"/>
                <a:ea typeface="Palatino Linotype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atomic number of carbon is ______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Palatino Linotype"/>
                <a:ea typeface="Palatino Linotype"/>
              </a:rPr>
              <a:t>atomic mass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of an atom is the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um of the number of protons and the number of neutrons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in the nucleus of an ato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ments are often symbolized with their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mass number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d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se values are given on the periodic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For now, round the mass # to a whole numb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se numbers tell you a lot about atom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# of protons = # of electrons = 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# of neutrons = mass number – atomic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Calculate # of e</a:t>
            </a:r>
            <a:r>
              <a:rPr b="1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–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, n</a:t>
            </a:r>
            <a:r>
              <a:rPr b="0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0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, p</a:t>
            </a:r>
            <a:r>
              <a:rPr b="0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+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for Ca, Ar, and B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 Mass and Numb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1"/>
          <p:cNvSpPr/>
          <p:nvPr/>
        </p:nvSpPr>
        <p:spPr>
          <a:xfrm>
            <a:off x="7518240" y="3666960"/>
            <a:ext cx="1473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604512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457200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2895480" y="3666960"/>
            <a:ext cx="1676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1295280" y="3666960"/>
            <a:ext cx="1600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152280" y="3666960"/>
            <a:ext cx="11430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7518240" y="290988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2"/>
          <p:cNvSpPr/>
          <p:nvPr/>
        </p:nvSpPr>
        <p:spPr>
          <a:xfrm>
            <a:off x="604512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57200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2895480" y="290988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1295280" y="290988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152280" y="290988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18240" y="2154240"/>
            <a:ext cx="1473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604512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57200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895480" y="2154240"/>
            <a:ext cx="1676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295280" y="2154240"/>
            <a:ext cx="160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52280" y="2154240"/>
            <a:ext cx="1143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7518240" y="139716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04512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57200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895480" y="139716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1295280" y="139716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52280" y="139716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152280" y="139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54"/>
          <p:cNvSpPr/>
          <p:nvPr/>
        </p:nvSpPr>
        <p:spPr>
          <a:xfrm>
            <a:off x="152280" y="290988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55"/>
          <p:cNvSpPr/>
          <p:nvPr/>
        </p:nvSpPr>
        <p:spPr>
          <a:xfrm>
            <a:off x="152280" y="366696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57"/>
          <p:cNvSpPr/>
          <p:nvPr/>
        </p:nvSpPr>
        <p:spPr>
          <a:xfrm>
            <a:off x="152280" y="4424400"/>
            <a:ext cx="8839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152280" y="1397160"/>
            <a:ext cx="0" cy="75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60"/>
          <p:cNvSpPr/>
          <p:nvPr/>
        </p:nvSpPr>
        <p:spPr>
          <a:xfrm>
            <a:off x="28954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1"/>
          <p:cNvSpPr/>
          <p:nvPr/>
        </p:nvSpPr>
        <p:spPr>
          <a:xfrm>
            <a:off x="457200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62"/>
          <p:cNvSpPr/>
          <p:nvPr/>
        </p:nvSpPr>
        <p:spPr>
          <a:xfrm>
            <a:off x="604512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63"/>
          <p:cNvSpPr/>
          <p:nvPr/>
        </p:nvSpPr>
        <p:spPr>
          <a:xfrm>
            <a:off x="751824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6"/>
          <p:cNvSpPr/>
          <p:nvPr/>
        </p:nvSpPr>
        <p:spPr>
          <a:xfrm>
            <a:off x="8991720" y="1397160"/>
            <a:ext cx="0" cy="3027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09"/>
          <p:cNvSpPr/>
          <p:nvPr/>
        </p:nvSpPr>
        <p:spPr>
          <a:xfrm>
            <a:off x="1295280" y="1397160"/>
            <a:ext cx="7696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10"/>
          <p:cNvSpPr/>
          <p:nvPr/>
        </p:nvSpPr>
        <p:spPr>
          <a:xfrm>
            <a:off x="152280" y="2154240"/>
            <a:ext cx="0" cy="2270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14"/>
          <p:cNvSpPr/>
          <p:nvPr/>
        </p:nvSpPr>
        <p:spPr>
          <a:xfrm>
            <a:off x="12952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16"/>
          <p:cNvSpPr/>
          <p:nvPr/>
        </p:nvSpPr>
        <p:spPr>
          <a:xfrm>
            <a:off x="152280" y="215424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762120" y="4800600"/>
            <a:ext cx="1968480" cy="1866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3429000" y="48006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6095880" y="4724280"/>
            <a:ext cx="189252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arker Felt"/>
                <a:ea typeface="Marker Felt"/>
              </a:rPr>
              <a:t>Atomic Structure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6" descr="joos1qyu[1]"/>
          <p:cNvPicPr/>
          <p:nvPr/>
        </p:nvPicPr>
        <p:blipFill>
          <a:blip r:embed="rId1"/>
          <a:stretch/>
        </p:blipFill>
        <p:spPr>
          <a:xfrm>
            <a:off x="2743200" y="2286000"/>
            <a:ext cx="36576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1"/>
          <p:cNvSpPr/>
          <p:nvPr/>
        </p:nvSpPr>
        <p:spPr>
          <a:xfrm>
            <a:off x="7518240" y="3666960"/>
            <a:ext cx="1473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604512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457200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2895480" y="3666960"/>
            <a:ext cx="1676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1295280" y="3666960"/>
            <a:ext cx="1600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152280" y="3666960"/>
            <a:ext cx="11430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7518240" y="290988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604512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457200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2895480" y="290988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1295280" y="290988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152280" y="290988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7518240" y="2154240"/>
            <a:ext cx="1473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604512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457200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2895480" y="2154240"/>
            <a:ext cx="1676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1295280" y="2154240"/>
            <a:ext cx="160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152280" y="2154240"/>
            <a:ext cx="1143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7518240" y="139716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604512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457200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95480" y="139716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295280" y="139716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52280" y="139716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>
            <a:off x="152280" y="139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54"/>
          <p:cNvSpPr/>
          <p:nvPr/>
        </p:nvSpPr>
        <p:spPr>
          <a:xfrm>
            <a:off x="152280" y="290988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55"/>
          <p:cNvSpPr/>
          <p:nvPr/>
        </p:nvSpPr>
        <p:spPr>
          <a:xfrm>
            <a:off x="152280" y="366696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7"/>
          <p:cNvSpPr/>
          <p:nvPr/>
        </p:nvSpPr>
        <p:spPr>
          <a:xfrm>
            <a:off x="152280" y="4424400"/>
            <a:ext cx="8839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58"/>
          <p:cNvSpPr/>
          <p:nvPr/>
        </p:nvSpPr>
        <p:spPr>
          <a:xfrm>
            <a:off x="152280" y="1397160"/>
            <a:ext cx="0" cy="75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60"/>
          <p:cNvSpPr/>
          <p:nvPr/>
        </p:nvSpPr>
        <p:spPr>
          <a:xfrm>
            <a:off x="28954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1"/>
          <p:cNvSpPr/>
          <p:nvPr/>
        </p:nvSpPr>
        <p:spPr>
          <a:xfrm>
            <a:off x="457200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62"/>
          <p:cNvSpPr/>
          <p:nvPr/>
        </p:nvSpPr>
        <p:spPr>
          <a:xfrm>
            <a:off x="604512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63"/>
          <p:cNvSpPr/>
          <p:nvPr/>
        </p:nvSpPr>
        <p:spPr>
          <a:xfrm>
            <a:off x="751824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6"/>
          <p:cNvSpPr/>
          <p:nvPr/>
        </p:nvSpPr>
        <p:spPr>
          <a:xfrm>
            <a:off x="8991720" y="1397160"/>
            <a:ext cx="0" cy="3027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09"/>
          <p:cNvSpPr/>
          <p:nvPr/>
        </p:nvSpPr>
        <p:spPr>
          <a:xfrm>
            <a:off x="1295280" y="1397160"/>
            <a:ext cx="7696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10"/>
          <p:cNvSpPr/>
          <p:nvPr/>
        </p:nvSpPr>
        <p:spPr>
          <a:xfrm>
            <a:off x="152280" y="2154240"/>
            <a:ext cx="0" cy="2270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14"/>
          <p:cNvSpPr/>
          <p:nvPr/>
        </p:nvSpPr>
        <p:spPr>
          <a:xfrm>
            <a:off x="12952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16"/>
          <p:cNvSpPr/>
          <p:nvPr/>
        </p:nvSpPr>
        <p:spPr>
          <a:xfrm>
            <a:off x="152280" y="215424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los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What are the particles that make up the atom and where are they loc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dentify the smallest particle of mat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Where is the majority of the mass of an atom loc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Complete the Atomic Structure and Mass fill-in-the-blanks not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*I will be checking this for doneness next clas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atoms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atoms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smallest particle of an element that retains the chemical identity of that ele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composed of building (bonding) several atoms togeth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atom is also considered the smallest form of matt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pure substance that cannot be broken down into smaller pie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the 3 major parts of an atom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040" y="2590560"/>
            <a:ext cx="7010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*these are referred to as subatomic partic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*they are in charge of the main characteristics of an ele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the 3 major parts of an atom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raw a diagram showing the location of each part of the ato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raw a diagram showing the location of each part of the ato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1:56:34Z</dcterms:created>
  <dc:creator>Mary Poarch</dc:creator>
  <dc:description/>
  <dc:language>en-US</dc:language>
  <cp:lastModifiedBy>Amanda Wendt</cp:lastModifiedBy>
  <dcterms:modified xsi:type="dcterms:W3CDTF">2014-08-19T12:31:38Z</dcterms:modified>
  <cp:revision>48</cp:revision>
  <dc:subject/>
  <dc:title>Atomic Structure</dc:title>
</cp:coreProperties>
</file>