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C0AA-0D18-4AA1-8E32-57DE9B4E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round the nucleus of an atom where electrons are most likely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impossible to describe its exact location because it is so small and moving so quickly around the nucleus (e.g. spokes on a bicycle whee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5EE0-7BE3-4A25-B355-A09399F1A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re even smaller particles than protons and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ks account for the electrical charge of an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1789-6FB3-4382-88A1-3F1DDDB924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ontains most of the mass of the atom because protons and neutrons are far more massive than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 proton is about the same as that of a neu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’s mass is so small that it is considered negligible when finding the mass of an atom (think of adding a paperclip to the top of a textbook) p.5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327F-ECE9-4E48-B156-DBCBD94C7F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N EXAMPLE ON THE BACK OF THEIR HISTORY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0F2-9E92-49DA-A79C-8484D2A85E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A89-2C4A-4C24-A80E-C7BB11504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FDF6-410A-43DC-9068-66C4093AF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A9FF-7FAE-41DD-87CC-B20834794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5B5C-8222-435A-86F8-8115C845D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The smallest piece of matter that still retains the property of the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matter that is composed of one type of el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take ~24,400 atoms stacked on top of one another to equal the thickness of a sheet of aluminum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C9FD-3943-4366-8D92-1C6C3A6E6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468D-540F-4670-AFD7-818420B89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3503-CD41-4444-AE2A-AB05B8FD2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EF7-BA95-458E-8515-51E7E8E4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B04-040E-4CED-A1DA-6DBA33EB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BD8-7473-4C59-B593-5105EBD3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C45-4204-4361-A08E-98359607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A2E-20D7-414D-B1F4-35F5F007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3D4-5404-4EBF-BA46-F73D951F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039-EEEB-4462-BE4A-C40BF347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49B-1EF7-4FA9-9DB4-4E6681A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456-50C9-4D10-A4B0-3489FD1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A76-1E21-41FB-AD7B-9A1B9D1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D18-E3F4-4243-8C45-A4B8DF1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F0E-AA53-4823-8FDA-3002637D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8B3-39DE-4952-8D5F-E4F38F771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physics/phys05/catomodel/cloud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ducation.jlab.org/glossary/isotope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-atom_e1.gif"/>
          <p:cNvPicPr/>
          <p:nvPr/>
        </p:nvPicPr>
        <p:blipFill>
          <a:blip r:embed="rId1"/>
          <a:stretch/>
        </p:blipFill>
        <p:spPr>
          <a:xfrm>
            <a:off x="1981080" y="1828800"/>
            <a:ext cx="4953240" cy="4713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80880" y="152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dd the charges of each part of the atom to your dra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Pro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ositively charged 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Ernest Rutherf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periments in the late 1960’s/early 1970's showed that protons are made from other particles calle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quark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are made from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wo 'up' quarks and one 'down' quark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950160" y="2209680"/>
            <a:ext cx="21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 Neu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ncharged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icles found in the atomic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ames Chadwick in 193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 are made from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one 'up' quark and two 'down' quar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an Elect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gatively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charged particles tha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rround the atom's nucleu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J. J. Thomson in 1897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determin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the ato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hemical reactions involve sharing or exchanging electro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04148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Nucle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is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entral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part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is composed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cleus contains most of an atom's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t was discovered by Ernest Rutherford in 191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REVIEW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is the Electron Cloud Mode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Model of the atom that picture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electrons moving around the nucleus in a region called an electron clou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electron cloud is a cloud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rying density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urrounding the nucleu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varying density shows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wher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 electron is more or less likely to b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with electrons in higher energy levels have additional electron clouds of different shapes that also show where those electrons are likely to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6172200"/>
            <a:ext cx="91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 more information, click here: </a:t>
            </a:r>
            <a:r>
              <a:rPr b="1" i="1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regentsprep.org/Regents/physics/phys05/catomodel/cloud.ht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Qua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  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basic building blocks of matt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in experiments done in the late 1960's and early 1970'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Palatino Linotype"/>
              </a:rPr>
              <a:t>Kinds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: 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ree families (ea. contains two quarks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Up and Down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Lowest mass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table and most common. Form protons &amp; neutron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trange and Charm quarks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 Only exist at high energies such as cosmic ray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457200">
              <a:lnSpc>
                <a:spcPct val="70000"/>
              </a:lnSpc>
              <a:spcBef>
                <a:spcPts val="4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op and Bottom qu</a:t>
            </a:r>
            <a:r>
              <a:rPr b="1" lang="en-US" sz="20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rks. Only exist at very high energies such as cosmic ray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638680" y="27000"/>
            <a:ext cx="3505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images-1.jpeg"/>
          <p:cNvPicPr/>
          <p:nvPr/>
        </p:nvPicPr>
        <p:blipFill>
          <a:blip r:embed="rId1"/>
          <a:srcRect l="0" t="6285" r="0" b="6285"/>
          <a:stretch/>
        </p:blipFill>
        <p:spPr>
          <a:xfrm>
            <a:off x="304920" y="380880"/>
            <a:ext cx="335268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ohr_atom.gif"/>
          <p:cNvPicPr/>
          <p:nvPr/>
        </p:nvPicPr>
        <p:blipFill>
          <a:blip r:embed="rId2"/>
          <a:stretch/>
        </p:blipFill>
        <p:spPr>
          <a:xfrm>
            <a:off x="4373640" y="2109960"/>
            <a:ext cx="4770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Orbits and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Discovered by  Neils Boh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18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ell=32 electr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58880" indent="-42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 are responsible for determining the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pertie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n at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Shared or lost to form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Ionic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r </a:t>
            </a: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Covalent Bond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Valence Electrons</a:t>
            </a:r>
            <a:r>
              <a:rPr b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: Electrons on the outermost shel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Bohr_Niels_9.jpeg"/>
          <p:cNvPicPr/>
          <p:nvPr/>
        </p:nvPicPr>
        <p:blipFill>
          <a:blip r:embed="rId1"/>
          <a:stretch/>
        </p:blipFill>
        <p:spPr>
          <a:xfrm>
            <a:off x="5715000" y="1295280"/>
            <a:ext cx="293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Atoms that have the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ame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but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different</a:t>
            </a: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numbers of </a:t>
            </a:r>
            <a:r>
              <a:rPr b="0" lang="en-US" sz="32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neu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6520" y="2209680"/>
            <a:ext cx="5790960" cy="31244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escribe Isot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isotope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2760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4920" y="5867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education.jlab.org/glossary/isotop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prot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tells you what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type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of atom you have and vice ver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.g. every carbon atom has 6 protons and every atom with 6 protons are carbon ato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number of protons in an atom is equal to a number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atomic number of carbon is ______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Palatino Linotype"/>
                <a:ea typeface="Palatino Linotype"/>
              </a:rPr>
              <a:t>atomic mass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of an atom is the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sum of the number of protons and the number of neutrons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in the nucleus of an at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ments are often symbolized with their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mass number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and </a:t>
            </a:r>
            <a:r>
              <a:rPr b="0" lang="en-US" sz="2800" spc="-1" strike="noStrike" u="sng">
                <a:solidFill>
                  <a:srgbClr val="4bacc6"/>
                </a:solidFill>
                <a:uFillTx/>
                <a:latin typeface="Palatino Linotype"/>
                <a:ea typeface="Palatino Linotype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values are given on the periodic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For now, round the mass # to a whole numb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These numbers tell you a lot about atom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protons = # of electrons = atomic 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# of neutrons = mass number – atomic 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u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Calculate # of e</a:t>
            </a:r>
            <a:r>
              <a:rPr b="1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–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n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0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, p</a:t>
            </a:r>
            <a:r>
              <a:rPr b="0" lang="en-US" sz="2800" spc="-1" strike="noStrike" baseline="30000">
                <a:solidFill>
                  <a:srgbClr val="4bacc6"/>
                </a:solidFill>
                <a:latin typeface="Palatino Linotype"/>
                <a:ea typeface="Palatino Linotype"/>
              </a:rPr>
              <a:t>+</a:t>
            </a:r>
            <a:r>
              <a:rPr b="0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 for Ca, Ar, and B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 Mass and Numb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968480" cy="186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925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arker Felt"/>
                <a:ea typeface="Marker Felt"/>
              </a:rPr>
              <a:t>Atomic Structur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6" descr="joos1qyu[1]"/>
          <p:cNvPicPr/>
          <p:nvPr/>
        </p:nvPicPr>
        <p:blipFill>
          <a:blip r:embed="rId1"/>
          <a:stretch/>
        </p:blipFill>
        <p:spPr>
          <a:xfrm>
            <a:off x="2743200" y="2286000"/>
            <a:ext cx="3657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1"/>
          <p:cNvSpPr/>
          <p:nvPr/>
        </p:nvSpPr>
        <p:spPr>
          <a:xfrm>
            <a:off x="7518240" y="3666960"/>
            <a:ext cx="1473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604512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4572000" y="3666960"/>
            <a:ext cx="14731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895480" y="3666960"/>
            <a:ext cx="16765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1295280" y="3666960"/>
            <a:ext cx="16002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152280" y="3666960"/>
            <a:ext cx="11430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7518240" y="290988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04512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4572000" y="290988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895480" y="290988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295280" y="290988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152280" y="290988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7518240" y="2154240"/>
            <a:ext cx="1473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04512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2000" y="2154240"/>
            <a:ext cx="14731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2895480" y="2154240"/>
            <a:ext cx="1676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1295280" y="2154240"/>
            <a:ext cx="160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152280" y="2154240"/>
            <a:ext cx="1143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518240" y="1397160"/>
            <a:ext cx="147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04512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572000" y="1397160"/>
            <a:ext cx="1473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 Linotype"/>
                <a:ea typeface="Palatino Linotype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95480" y="1397160"/>
            <a:ext cx="1676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95280" y="1397160"/>
            <a:ext cx="1600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At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52280" y="1397160"/>
            <a:ext cx="1143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>
            <a:off x="152280" y="139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152280" y="290988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52280" y="366696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7"/>
          <p:cNvSpPr/>
          <p:nvPr/>
        </p:nvSpPr>
        <p:spPr>
          <a:xfrm>
            <a:off x="152280" y="4424400"/>
            <a:ext cx="8839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52280" y="1397160"/>
            <a:ext cx="0" cy="75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0"/>
          <p:cNvSpPr/>
          <p:nvPr/>
        </p:nvSpPr>
        <p:spPr>
          <a:xfrm>
            <a:off x="28954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1"/>
          <p:cNvSpPr/>
          <p:nvPr/>
        </p:nvSpPr>
        <p:spPr>
          <a:xfrm>
            <a:off x="457200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2"/>
          <p:cNvSpPr/>
          <p:nvPr/>
        </p:nvSpPr>
        <p:spPr>
          <a:xfrm>
            <a:off x="604512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3"/>
          <p:cNvSpPr/>
          <p:nvPr/>
        </p:nvSpPr>
        <p:spPr>
          <a:xfrm>
            <a:off x="751824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6"/>
          <p:cNvSpPr/>
          <p:nvPr/>
        </p:nvSpPr>
        <p:spPr>
          <a:xfrm>
            <a:off x="8991720" y="1397160"/>
            <a:ext cx="0" cy="3027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9"/>
          <p:cNvSpPr/>
          <p:nvPr/>
        </p:nvSpPr>
        <p:spPr>
          <a:xfrm>
            <a:off x="1295280" y="1397160"/>
            <a:ext cx="7696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0"/>
          <p:cNvSpPr/>
          <p:nvPr/>
        </p:nvSpPr>
        <p:spPr>
          <a:xfrm>
            <a:off x="152280" y="2154240"/>
            <a:ext cx="0" cy="2270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4"/>
          <p:cNvSpPr/>
          <p:nvPr/>
        </p:nvSpPr>
        <p:spPr>
          <a:xfrm>
            <a:off x="1295280" y="1397160"/>
            <a:ext cx="0" cy="3027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6"/>
          <p:cNvSpPr/>
          <p:nvPr/>
        </p:nvSpPr>
        <p:spPr>
          <a:xfrm>
            <a:off x="152280" y="2154240"/>
            <a:ext cx="8839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at are the particles that make up the atom and where are they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Identify the smallest particle of mat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Where is the majority of the mass of an atom loc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Complete the Atomic Structure and Mass fill-in-the-blanks no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*I will be checking this for doneness next clas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atoms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mallest particle of an element that retains the chemical identity of that ele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composed of building (bonding) several atoms togeth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tom is also considered the smallest form of matt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pure substance that cannot be broken down into smaller pie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040" y="25905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4bacc6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se are referred to as subatomic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bacc6"/>
                </a:solidFill>
                <a:latin typeface="Palatino Linotype"/>
                <a:ea typeface="Palatino Linotype"/>
              </a:rPr>
              <a:t>*they are in charge of the main characteristics of an ele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What are the 3 major parts of an atom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  <a:ea typeface="Palatino Linotype"/>
              </a:rPr>
              <a:t>Draw a diagram showing the location of each part of the ato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56:34Z</dcterms:created>
  <dc:creator>Mary Poarch</dc:creator>
  <dc:description/>
  <dc:language>en-US</dc:language>
  <cp:lastModifiedBy>Amanda Wendt</cp:lastModifiedBy>
  <dcterms:modified xsi:type="dcterms:W3CDTF">2014-08-19T12:31:38Z</dcterms:modified>
  <cp:revision>48</cp:revision>
  <dc:subject/>
  <dc:title>Atomic Structure</dc:title>
</cp:coreProperties>
</file>