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582A-D488-4796-961B-F426BB7F3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round the nucleus of an atom where electrons are most likely 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impossible to describe its exact location because it is so small and moving so quickly around the nucleus (e.g. spokes on a bicycle whee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F4FE-6D53-4863-AD81-4A110B370A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ks are even smaller particles than protons and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ks account for the electrical charge of an at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922B-E316-404E-955D-1AC2D8FB83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contains most of the mass of the atom because protons and neutrons are far more massive than elec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a proton is about the same as that of a neu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’s mass is so small that it is considered negligible when finding the mass of an atom (think of adding a paperclip to the top of a textbook) p.5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0B82-5870-47ED-97D5-F8CC823221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N EXAMPLE ON THE BACK OF THEIR HISTORY WORK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3342-E92A-45FB-97E9-EE2E850267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912F-D741-4163-B8CB-E90752A37E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C1FD-86B0-44D3-914D-953DBF2186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8B1A-C4BB-4B4A-849E-814C802073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The smallest piece of matter that still retains the property of the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matter that is composed of one type of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take ~24,400 atoms stacked on top of one another to equal the thickness of a sheet of aluminum fo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7EC2-C679-4DD8-88BA-1EB6887A43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The smallest piece of matter that still retains the property of the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matter that is composed of one type of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take ~24,400 atoms stacked on top of one another to equal the thickness of a sheet of aluminum fo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4909-E1D4-4B06-85F8-14302F3E2E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EBFF-C9FD-4716-9F65-F1D3A68A0D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0067-3B0F-4F67-BB93-AB1E8786CA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F36-6415-4AFF-B345-5C9364F6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BF6-9D72-4B70-AD14-FC713338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395-B10C-4313-BDD9-FD1DA3AB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573-734A-4CCC-8058-29BE9759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B2E-1D92-44F9-B476-AB6EE0B2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61F-8D8D-454E-914A-4B4BEDB9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4DC-8829-40F6-ABC7-073AA05C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748-7700-44AC-AB13-7FA8C1D8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620-E1B2-40B4-AB5E-6533901B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BD4-7AEA-48CF-86D4-ECC71D0D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AF0-19B3-4540-B7DD-DC5B9661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DDC-36E9-4B99-A3A2-B0741C68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8BB8-41FD-42CB-B311-670008D06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egentsprep.org/Regents/physics/phys05/catomodel/cloud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education.jlab.org/glossary/isotope.html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REVIEW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is the Electron Cloud Mode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1522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dd the charges of each part of the atom to your draw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-atom_e1.gif"/>
          <p:cNvPicPr/>
          <p:nvPr/>
        </p:nvPicPr>
        <p:blipFill>
          <a:blip r:embed="rId1"/>
          <a:stretch/>
        </p:blipFill>
        <p:spPr>
          <a:xfrm>
            <a:off x="1981080" y="1828800"/>
            <a:ext cx="4953240" cy="47131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380880" y="1522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dd the charges of each part of the atom to your draw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Prot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Prot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rotons ar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ositively charged 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articles found in the atomic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ucleu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Ernest Rutherfor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xperiments in the late 1960’s/early 1970's showed that protons are made from other particles called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quark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rotons are made from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two 'up' quarks and one 'down' quark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6950160" y="2209680"/>
            <a:ext cx="2193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Neu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Neu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eutrons ar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uncharged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particles found in the atomic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ucleu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James Chadwick in 193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eutrons are made from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one 'up' quark and two 'down' quark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5943600" y="4952880"/>
            <a:ext cx="2666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n Elec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n Elec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 ar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egatively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charged particles that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urround the atom's nucleu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J. J. Thomson in 1897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 determin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pertie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f the atom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Chemical reactions involve sharing or exchanging electron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04148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Nucleu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Nucleu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cleus is th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central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part of an ato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It is composed of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ton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and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eutron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cleus contains most of an atom's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mas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It was discovered by Ernest Rutherford in 1911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388620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REVIEW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is the Electron Cloud Mode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Model of the atom that pictures the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electrons moving around the nucleus in a region called an electron cloud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electron cloud is a cloud of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varying density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urrounding the nucleu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varying density shows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where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an electron is more or less likely to b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Atoms with electrons in higher energy levels have additional electron clouds of different shapes that also show where those electrons are likely to b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380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819520" y="6172200"/>
            <a:ext cx="91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For more information, click here: </a:t>
            </a:r>
            <a:r>
              <a:rPr b="1" i="1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regentsprep.org/Regents/physics/phys05/catomodel/cloud.ht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Quar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182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Quar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520" y="19051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Palatino Linotype"/>
              </a:rPr>
              <a:t>What</a:t>
            </a: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  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basic building blocks of matter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Palatino Linotype"/>
              </a:rPr>
              <a:t>When</a:t>
            </a: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: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in experiments done in the late 1960's and early 1970'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Palatino Linotype"/>
              </a:rPr>
              <a:t>Kinds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: 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ree families (ea. contains two quarks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Up and Down quarks</a:t>
            </a: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Lowest masses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table and most common. Form protons &amp; neutron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trange and Charm quarks</a:t>
            </a: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Only exist at high energies such as cosmic ray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Top and Bottom qu</a:t>
            </a: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arks. Only exist at very high energies such as cosmic rays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5638680" y="27000"/>
            <a:ext cx="35053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Orbi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Content Placeholder 3" descr="images-1.jpeg"/>
          <p:cNvPicPr/>
          <p:nvPr/>
        </p:nvPicPr>
        <p:blipFill>
          <a:blip r:embed="rId1"/>
          <a:srcRect l="0" t="6285" r="0" b="6285"/>
          <a:stretch/>
        </p:blipFill>
        <p:spPr>
          <a:xfrm>
            <a:off x="304920" y="380880"/>
            <a:ext cx="3352680" cy="313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bohr_atom.gif"/>
          <p:cNvPicPr/>
          <p:nvPr/>
        </p:nvPicPr>
        <p:blipFill>
          <a:blip r:embed="rId2"/>
          <a:stretch/>
        </p:blipFill>
        <p:spPr>
          <a:xfrm>
            <a:off x="4373640" y="2109960"/>
            <a:ext cx="477036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Orbits and Electr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 Neils Boh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2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8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18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32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 are responsible for determining the </a:t>
            </a: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perties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f an ato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ared or lost to form </a:t>
            </a: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Ionic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r </a:t>
            </a: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Covalent Bonds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Valence Electrons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: Electrons on the outermost shell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3" descr="Bohr_Niels_9.jpeg"/>
          <p:cNvPicPr/>
          <p:nvPr/>
        </p:nvPicPr>
        <p:blipFill>
          <a:blip r:embed="rId1"/>
          <a:stretch/>
        </p:blipFill>
        <p:spPr>
          <a:xfrm>
            <a:off x="5715000" y="1295280"/>
            <a:ext cx="2933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Isot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Isot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2286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Atoms that have th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ame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number of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ton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but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different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numbers of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eutro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676520" y="2209680"/>
            <a:ext cx="5790960" cy="312444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Isot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4" descr="isotope"/>
          <p:cNvPicPr/>
          <p:nvPr/>
        </p:nvPicPr>
        <p:blipFill>
          <a:blip r:embed="rId1"/>
          <a:stretch/>
        </p:blipFill>
        <p:spPr>
          <a:xfrm>
            <a:off x="1905120" y="2362320"/>
            <a:ext cx="5029200" cy="2760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04920" y="5867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57200" y="56386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education.jlab.org/glossary/isotope.htm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 Mass and Numb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mber of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tons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tells you what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type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f atom you have and vice versa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.g. every carbon atom has 6 protons and every atom with 6 protons are carbon atom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mber of protons in an atom is equal to a number called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Palatino Linotype"/>
                <a:ea typeface="Palatino Linotype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atomic number of carbon is ______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Palatino Linotype"/>
                <a:ea typeface="Palatino Linotype"/>
              </a:rPr>
              <a:t>atomic mass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of an atom is the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um of the number of protons and the number of neutrons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in the nucleus of an ato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ments are often symbolized with their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mass number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and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se values are given on the periodic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For now, round the mass # to a whole numb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se numbers tell you a lot about atom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# of protons = # of electrons = atomic 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# of neutrons = mass number – atomic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Calculate # of e</a:t>
            </a:r>
            <a:r>
              <a:rPr b="1" lang="en-US" sz="2800" spc="-1" strike="noStrike" baseline="30000">
                <a:solidFill>
                  <a:srgbClr val="4bacc6"/>
                </a:solidFill>
                <a:latin typeface="Palatino Linotype"/>
                <a:ea typeface="Palatino Linotype"/>
              </a:rPr>
              <a:t>–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, n</a:t>
            </a:r>
            <a:r>
              <a:rPr b="0" lang="en-US" sz="2800" spc="-1" strike="noStrike" baseline="30000">
                <a:solidFill>
                  <a:srgbClr val="4bacc6"/>
                </a:solidFill>
                <a:latin typeface="Palatino Linotype"/>
                <a:ea typeface="Palatino Linotype"/>
              </a:rPr>
              <a:t>0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, p</a:t>
            </a:r>
            <a:r>
              <a:rPr b="0" lang="en-US" sz="2800" spc="-1" strike="noStrike" baseline="30000">
                <a:solidFill>
                  <a:srgbClr val="4bacc6"/>
                </a:solidFill>
                <a:latin typeface="Palatino Linotype"/>
                <a:ea typeface="Palatino Linotype"/>
              </a:rPr>
              <a:t>+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for Ca, Ar, and B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 Mass and Numb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1"/>
          <p:cNvSpPr/>
          <p:nvPr/>
        </p:nvSpPr>
        <p:spPr>
          <a:xfrm>
            <a:off x="7518240" y="3666960"/>
            <a:ext cx="147348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0"/>
          <p:cNvSpPr/>
          <p:nvPr/>
        </p:nvSpPr>
        <p:spPr>
          <a:xfrm>
            <a:off x="604512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9"/>
          <p:cNvSpPr/>
          <p:nvPr/>
        </p:nvSpPr>
        <p:spPr>
          <a:xfrm>
            <a:off x="457200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8"/>
          <p:cNvSpPr/>
          <p:nvPr/>
        </p:nvSpPr>
        <p:spPr>
          <a:xfrm>
            <a:off x="2895480" y="3666960"/>
            <a:ext cx="16765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1295280" y="3666960"/>
            <a:ext cx="16002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152280" y="3666960"/>
            <a:ext cx="11430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7518240" y="290988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2"/>
          <p:cNvSpPr/>
          <p:nvPr/>
        </p:nvSpPr>
        <p:spPr>
          <a:xfrm>
            <a:off x="604512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457200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2895480" y="290988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9"/>
          <p:cNvSpPr/>
          <p:nvPr/>
        </p:nvSpPr>
        <p:spPr>
          <a:xfrm>
            <a:off x="1295280" y="290988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152280" y="290988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7518240" y="2154240"/>
            <a:ext cx="1473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604512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457200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2895480" y="2154240"/>
            <a:ext cx="16765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1295280" y="2154240"/>
            <a:ext cx="1600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152280" y="2154240"/>
            <a:ext cx="1143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7518240" y="139716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604512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457200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895480" y="139716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1295280" y="139716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52280" y="139716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152280" y="139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54"/>
          <p:cNvSpPr/>
          <p:nvPr/>
        </p:nvSpPr>
        <p:spPr>
          <a:xfrm>
            <a:off x="152280" y="290988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55"/>
          <p:cNvSpPr/>
          <p:nvPr/>
        </p:nvSpPr>
        <p:spPr>
          <a:xfrm>
            <a:off x="152280" y="366696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57"/>
          <p:cNvSpPr/>
          <p:nvPr/>
        </p:nvSpPr>
        <p:spPr>
          <a:xfrm>
            <a:off x="152280" y="4424400"/>
            <a:ext cx="8839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58"/>
          <p:cNvSpPr/>
          <p:nvPr/>
        </p:nvSpPr>
        <p:spPr>
          <a:xfrm>
            <a:off x="152280" y="1397160"/>
            <a:ext cx="0" cy="75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60"/>
          <p:cNvSpPr/>
          <p:nvPr/>
        </p:nvSpPr>
        <p:spPr>
          <a:xfrm>
            <a:off x="28954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61"/>
          <p:cNvSpPr/>
          <p:nvPr/>
        </p:nvSpPr>
        <p:spPr>
          <a:xfrm>
            <a:off x="457200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62"/>
          <p:cNvSpPr/>
          <p:nvPr/>
        </p:nvSpPr>
        <p:spPr>
          <a:xfrm>
            <a:off x="604512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63"/>
          <p:cNvSpPr/>
          <p:nvPr/>
        </p:nvSpPr>
        <p:spPr>
          <a:xfrm>
            <a:off x="751824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66"/>
          <p:cNvSpPr/>
          <p:nvPr/>
        </p:nvSpPr>
        <p:spPr>
          <a:xfrm>
            <a:off x="8991720" y="1397160"/>
            <a:ext cx="0" cy="3027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09"/>
          <p:cNvSpPr/>
          <p:nvPr/>
        </p:nvSpPr>
        <p:spPr>
          <a:xfrm>
            <a:off x="1295280" y="1397160"/>
            <a:ext cx="7696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10"/>
          <p:cNvSpPr/>
          <p:nvPr/>
        </p:nvSpPr>
        <p:spPr>
          <a:xfrm>
            <a:off x="152280" y="2154240"/>
            <a:ext cx="0" cy="2270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14"/>
          <p:cNvSpPr/>
          <p:nvPr/>
        </p:nvSpPr>
        <p:spPr>
          <a:xfrm>
            <a:off x="12952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16"/>
          <p:cNvSpPr/>
          <p:nvPr/>
        </p:nvSpPr>
        <p:spPr>
          <a:xfrm>
            <a:off x="152280" y="215424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762120" y="4800600"/>
            <a:ext cx="1968480" cy="1866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3429000" y="480060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6095880" y="4724280"/>
            <a:ext cx="189252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arker Felt"/>
                <a:ea typeface="Marker Felt"/>
              </a:rPr>
              <a:t>Atomic Structure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6" descr="joos1qyu[1]"/>
          <p:cNvPicPr/>
          <p:nvPr/>
        </p:nvPicPr>
        <p:blipFill>
          <a:blip r:embed="rId1"/>
          <a:stretch/>
        </p:blipFill>
        <p:spPr>
          <a:xfrm>
            <a:off x="2743200" y="2286000"/>
            <a:ext cx="36576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1"/>
          <p:cNvSpPr/>
          <p:nvPr/>
        </p:nvSpPr>
        <p:spPr>
          <a:xfrm>
            <a:off x="7518240" y="3666960"/>
            <a:ext cx="147348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0"/>
          <p:cNvSpPr/>
          <p:nvPr/>
        </p:nvSpPr>
        <p:spPr>
          <a:xfrm>
            <a:off x="604512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9"/>
          <p:cNvSpPr/>
          <p:nvPr/>
        </p:nvSpPr>
        <p:spPr>
          <a:xfrm>
            <a:off x="457200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2895480" y="3666960"/>
            <a:ext cx="16765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7"/>
          <p:cNvSpPr/>
          <p:nvPr/>
        </p:nvSpPr>
        <p:spPr>
          <a:xfrm>
            <a:off x="1295280" y="3666960"/>
            <a:ext cx="16002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152280" y="3666960"/>
            <a:ext cx="11430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3"/>
          <p:cNvSpPr/>
          <p:nvPr/>
        </p:nvSpPr>
        <p:spPr>
          <a:xfrm>
            <a:off x="7518240" y="290988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2"/>
          <p:cNvSpPr/>
          <p:nvPr/>
        </p:nvSpPr>
        <p:spPr>
          <a:xfrm>
            <a:off x="604512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457200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2895480" y="290988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1295280" y="290988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28"/>
          <p:cNvSpPr/>
          <p:nvPr/>
        </p:nvSpPr>
        <p:spPr>
          <a:xfrm>
            <a:off x="152280" y="290988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5"/>
          <p:cNvSpPr/>
          <p:nvPr/>
        </p:nvSpPr>
        <p:spPr>
          <a:xfrm>
            <a:off x="7518240" y="2154240"/>
            <a:ext cx="1473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604512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23"/>
          <p:cNvSpPr/>
          <p:nvPr/>
        </p:nvSpPr>
        <p:spPr>
          <a:xfrm>
            <a:off x="457200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2895480" y="2154240"/>
            <a:ext cx="16765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1295280" y="2154240"/>
            <a:ext cx="1600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152280" y="2154240"/>
            <a:ext cx="1143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7518240" y="139716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604512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457200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2895480" y="139716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1295280" y="139716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52280" y="139716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52"/>
          <p:cNvSpPr/>
          <p:nvPr/>
        </p:nvSpPr>
        <p:spPr>
          <a:xfrm>
            <a:off x="152280" y="139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54"/>
          <p:cNvSpPr/>
          <p:nvPr/>
        </p:nvSpPr>
        <p:spPr>
          <a:xfrm>
            <a:off x="152280" y="290988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55"/>
          <p:cNvSpPr/>
          <p:nvPr/>
        </p:nvSpPr>
        <p:spPr>
          <a:xfrm>
            <a:off x="152280" y="366696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57"/>
          <p:cNvSpPr/>
          <p:nvPr/>
        </p:nvSpPr>
        <p:spPr>
          <a:xfrm>
            <a:off x="152280" y="4424400"/>
            <a:ext cx="8839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58"/>
          <p:cNvSpPr/>
          <p:nvPr/>
        </p:nvSpPr>
        <p:spPr>
          <a:xfrm>
            <a:off x="152280" y="1397160"/>
            <a:ext cx="0" cy="75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60"/>
          <p:cNvSpPr/>
          <p:nvPr/>
        </p:nvSpPr>
        <p:spPr>
          <a:xfrm>
            <a:off x="28954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61"/>
          <p:cNvSpPr/>
          <p:nvPr/>
        </p:nvSpPr>
        <p:spPr>
          <a:xfrm>
            <a:off x="457200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62"/>
          <p:cNvSpPr/>
          <p:nvPr/>
        </p:nvSpPr>
        <p:spPr>
          <a:xfrm>
            <a:off x="604512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63"/>
          <p:cNvSpPr/>
          <p:nvPr/>
        </p:nvSpPr>
        <p:spPr>
          <a:xfrm>
            <a:off x="751824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66"/>
          <p:cNvSpPr/>
          <p:nvPr/>
        </p:nvSpPr>
        <p:spPr>
          <a:xfrm>
            <a:off x="8991720" y="1397160"/>
            <a:ext cx="0" cy="3027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09"/>
          <p:cNvSpPr/>
          <p:nvPr/>
        </p:nvSpPr>
        <p:spPr>
          <a:xfrm>
            <a:off x="1295280" y="1397160"/>
            <a:ext cx="7696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10"/>
          <p:cNvSpPr/>
          <p:nvPr/>
        </p:nvSpPr>
        <p:spPr>
          <a:xfrm>
            <a:off x="152280" y="2154240"/>
            <a:ext cx="0" cy="2270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14"/>
          <p:cNvSpPr/>
          <p:nvPr/>
        </p:nvSpPr>
        <p:spPr>
          <a:xfrm>
            <a:off x="12952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16"/>
          <p:cNvSpPr/>
          <p:nvPr/>
        </p:nvSpPr>
        <p:spPr>
          <a:xfrm>
            <a:off x="152280" y="215424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Clos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What are the particles that make up the atom and where are they loc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Identify the smallest particle of mat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Where is the majority of the mass of an atom loc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Calibri"/>
              </a:rPr>
              <a:t>Complete the Atomic Structure and Mass fill-in-the-blanks not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Calibri"/>
              </a:rPr>
              <a:t>*I will be checking this for doneness next clas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atoms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atoms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tom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smallest particle of an element that retains the chemical identity of that eleme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composed of building (bonding) several atoms togeth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 atom is also considered the smallest form of matt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 pure substance that cannot be broken down into smaller piec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the 3 major parts of an atom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14040" y="2590560"/>
            <a:ext cx="70102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roto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eu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*these are referred to as subatomic partic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*they are in charge of the main characteristics of an ele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38088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the 3 major parts of an atom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53352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raw a diagram showing the location of each part of the ato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4038840" cy="4038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53352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raw a diagram showing the location of each part of the ato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01:56:34Z</dcterms:created>
  <dc:creator>Mary Poarch</dc:creator>
  <dc:description/>
  <dc:language>en-US</dc:language>
  <cp:lastModifiedBy>Amanda Wendt</cp:lastModifiedBy>
  <dcterms:modified xsi:type="dcterms:W3CDTF">2014-08-19T12:31:38Z</dcterms:modified>
  <cp:revision>48</cp:revision>
  <dc:subject/>
  <dc:title>Atomic Structure</dc:title>
</cp:coreProperties>
</file>