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0C43-F9D5-4197-B054-DBB87003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round the nucleus of an atom where electrons are most likely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impossible to describe its exact location because it is so small and moving so quickly around the nucleus (e.g. spokes on a bicycle whee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E0F-0CE2-4755-9890-76FE59ECB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re even smaller particles than protons and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ccount for the electrical charge of an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B443-DC70-4CAA-BBEB-674CAED7E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ontains most of the mass of the atom because protons and neutrons are far more massive than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 proton is about the same as that of a neu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’s mass is so small that it is considered negligible when finding the mass of an atom (think of adding a paperclip to the top of a textbook) p.5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392F-A3AB-4CE5-BD27-7AA485050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N EXAMPLE ON THE BACK OF THEIR HISTORY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027B-A72E-4DA1-B152-C44A3435B2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EC1-BB95-4B7B-8B4F-CC0B1BC6B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B604-AD7E-48C4-B791-B73060CA7A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E17-820D-49F0-9B54-D3B6B48924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021A-AA54-4F7F-A071-C12C780258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B82-2F92-408C-B301-FC98735899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2401-04AB-4EC6-9CDC-A292DE9BB8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EC8B-4F53-4BC8-955F-EACF23AE3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A90-D6F1-4D91-A447-90A37EFB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60D-A095-4127-B928-7E7A6170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9BB-7C93-41A8-8104-2B469EAB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26E-E420-49E6-8CC6-C3D0DBB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C9F-0FC7-4DD9-AB0A-CBB9654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7AC-964C-4415-9E22-9A317D4A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FCB-774D-4C4E-A73D-57DEBE11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4EC-8D42-4AAA-985C-F3DA9B03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2FB-B48D-4C95-B5AD-E8D2C56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C18-2F8C-42F9-90E0-169EF0D9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868-7D2C-46CF-9C7A-E19ADB3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665-B3F1-476E-B35C-9028714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29E5-E5AC-4750-9884-D5C0B7424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physics/phys05/catomodel/cloud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ducation.jlab.org/glossary/isotope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-atom_e1.gif"/>
          <p:cNvPicPr/>
          <p:nvPr/>
        </p:nvPicPr>
        <p:blipFill>
          <a:blip r:embed="rId1"/>
          <a:stretch/>
        </p:blipFill>
        <p:spPr>
          <a:xfrm>
            <a:off x="1981080" y="1828800"/>
            <a:ext cx="4953240" cy="4713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ositively charged 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Ernest Rutherf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periments in the late 1960’s/early 1970's showed that protons are made from other particles calle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quark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made from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wo 'up' quarks and one 'down' quark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950160" y="2209680"/>
            <a:ext cx="21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ncharged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ames Chadwick in 193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made from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one 'up' quark and two 'down' quar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gatively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charged particles tha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rround the atom's 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. J. Thomson in 1897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determin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the ato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hemical reactions involve sharing or exchanging electro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04148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is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entral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is composed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contains most of an atom's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was discovered by Ernest Rutherford in 191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Model of the atom that picture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electrons moving around the nucleus in a region called an electron clou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electron cloud is a cloud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rying density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urrounding the nucleu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varying density shows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wher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 electron is more or less likely to b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with electrons in higher energy levels have additional electron clouds of different shapes that also show where those electrons are likely to b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380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6172200"/>
            <a:ext cx="91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 more information, click here: </a:t>
            </a: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regentsprep.org/Regents/physics/phys05/catomodel/cloud.ht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905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  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basic building blocks of matt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in experiments done in the late 1960's and early 1970'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Kinds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ree families (ea. contains two quarks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p and Down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Lowest mass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table and most common. Form protons &amp; neutron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trange and Charm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Only exist at high energies such as cosmic ray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op and Bottom qu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rks. Only exist at very high energies such as cosmic ray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638680" y="27000"/>
            <a:ext cx="3505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images-1.jpeg"/>
          <p:cNvPicPr/>
          <p:nvPr/>
        </p:nvPicPr>
        <p:blipFill>
          <a:blip r:embed="rId1"/>
          <a:srcRect l="0" t="6285" r="0" b="6285"/>
          <a:stretch/>
        </p:blipFill>
        <p:spPr>
          <a:xfrm>
            <a:off x="304920" y="380880"/>
            <a:ext cx="3352680" cy="31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ohr_atom.gif"/>
          <p:cNvPicPr/>
          <p:nvPr/>
        </p:nvPicPr>
        <p:blipFill>
          <a:blip r:embed="rId2"/>
          <a:stretch/>
        </p:blipFill>
        <p:spPr>
          <a:xfrm>
            <a:off x="4373640" y="2109960"/>
            <a:ext cx="4770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 and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 Neils Boh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1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3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responsible for determining the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n at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ared or lost to form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Ionic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r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ovalent Bond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lence Electron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: Electrons on the outermost shel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Bohr_Niels_9.jpeg"/>
          <p:cNvPicPr/>
          <p:nvPr/>
        </p:nvPicPr>
        <p:blipFill>
          <a:blip r:embed="rId1"/>
          <a:stretch/>
        </p:blipFill>
        <p:spPr>
          <a:xfrm>
            <a:off x="5715000" y="1295280"/>
            <a:ext cx="293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that have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ame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bu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different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s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6520" y="2209680"/>
            <a:ext cx="5790960" cy="31244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isotope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2760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4920" y="5867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5638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ducation.jlab.org/glossary/isotop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tells you what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yp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tom you have and vice vers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.g. every carbon atom has 6 protons and every atom with 6 protons are carbon ato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protons in an atom is equal to a number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atomic number of carbon is ___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mass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of an atom i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m of the number of protons and the number of neutr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in the nucleus of an at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ments are often symbolized with their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 number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values are given on the periodic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For now, round the mass # to a whole numb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numbers tell you a lot about atom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protons = # of electrons = 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neutrons = mass number – atomic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alculate # of e</a:t>
            </a:r>
            <a:r>
              <a:rPr b="1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–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n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0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p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+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for Ca, Ar, and B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968480" cy="186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429000" y="48006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18925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arker Felt"/>
                <a:ea typeface="Marker Felt"/>
              </a:rPr>
              <a:t>Atomic Structure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6" descr="joos1qyu[1]"/>
          <p:cNvPicPr/>
          <p:nvPr/>
        </p:nvPicPr>
        <p:blipFill>
          <a:blip r:embed="rId1"/>
          <a:stretch/>
        </p:blipFill>
        <p:spPr>
          <a:xfrm>
            <a:off x="2743200" y="2286000"/>
            <a:ext cx="3657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at are the particles that make up the atom and where are they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dentify the smallest particle of mat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ere is the majority of the mass of an atom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Complete the Atomic Structure and Mass fill-in-the-blanks no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*I will be checking this for doneness next clas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mallest particle of an element that retains the chemical identity of that ele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composed of building (bonding) several atoms togeth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tom is also considered the smallest form of matt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pure substance that cannot be broken down into smaller pie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040" y="25905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se are referred to as subatomic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y are in charge of the main characteristics of an ele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1:56:34Z</dcterms:created>
  <dc:creator>Mary Poarch</dc:creator>
  <dc:description/>
  <dc:language>en-US</dc:language>
  <cp:lastModifiedBy>Amanda Wendt</cp:lastModifiedBy>
  <dcterms:modified xsi:type="dcterms:W3CDTF">2014-08-19T12:31:38Z</dcterms:modified>
  <cp:revision>48</cp:revision>
  <dc:subject/>
  <dc:title>Atomic Structure</dc:title>
</cp:coreProperties>
</file>